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BAAB-A00D-4032-926D-4B4B78647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87E0-9CDA-4BFD-B010-D58155483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DA98-50CC-4C4C-927A-0A0CA8288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9A72-DDB9-42AA-9DC8-45A539DDE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040F-ADA0-4B07-9800-9B492EDE0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A3BC-317E-45BE-BFE4-C906571F2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9066-9A5E-4BA0-AC91-39892DCD1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6564-0D63-4A76-8E3E-2D1773E6F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_x0017_UNFPA Logo 2/BANNER.tif                                        00059BBF_x0006_Muschi                         ABA78158:"/>
          <p:cNvPicPr/>
          <p:nvPr/>
        </p:nvPicPr>
        <p:blipFill>
          <a:blip r:embed="rId2"/>
          <a:stretch/>
        </p:blipFill>
        <p:spPr>
          <a:xfrm>
            <a:off x="0" y="0"/>
            <a:ext cx="914076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9ba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2133720" y="5029200"/>
            <a:ext cx="57909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600" spc="-1" strike="noStrike">
                <a:solidFill>
                  <a:srgbClr val="ffffff"/>
                </a:solidFill>
                <a:latin typeface="UNFPA-Semibold"/>
              </a:rPr>
              <a:t>Donor Coordination Forum</a:t>
            </a:r>
            <a:br>
              <a:rPr sz="3600"/>
            </a:br>
            <a:r>
              <a:rPr b="0" lang="bs-BA" sz="2400" spc="-1" strike="noStrike">
                <a:solidFill>
                  <a:srgbClr val="ffffff"/>
                </a:solidFill>
                <a:latin typeface="UNFPA-Semibold"/>
              </a:rPr>
              <a:t>Sarajevo, 30th June 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_x0019_UNFPA-Logo_Intro-page.gif                                      00059BBF_x0006_Muschi                         ABA78158:"/>
          <p:cNvPicPr/>
          <p:nvPr/>
        </p:nvPicPr>
        <p:blipFill>
          <a:blip r:embed="rId1"/>
          <a:stretch/>
        </p:blipFill>
        <p:spPr>
          <a:xfrm>
            <a:off x="2146320" y="765000"/>
            <a:ext cx="5181480" cy="244476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133720" y="3141720"/>
            <a:ext cx="55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ing a world where every pregnancy is wanted, every childbirth is safe and every young person's potential is fulfil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971640" y="2276640"/>
            <a:ext cx="7416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11360" y="54936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ffffff"/>
                </a:solidFill>
                <a:latin typeface="UNFPA-Semibold"/>
              </a:rPr>
              <a:t>Mandate and busines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Box 2"/>
          <p:cNvSpPr/>
          <p:nvPr/>
        </p:nvSpPr>
        <p:spPr>
          <a:xfrm>
            <a:off x="395280" y="198900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CPD 1994, Ca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imes New Roman"/>
              </a:rPr>
              <a:t>SP 2014-2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imes New Roman"/>
              </a:rPr>
              <a:t>CPD 2015-2019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y, advocacy and capacity bui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4788000" y="2451240"/>
            <a:ext cx="395136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UNFPA Work in Bi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468360" y="1989000"/>
            <a:ext cx="8424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CPD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2015-2019 outlines 4 pillars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R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YOU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GBV/CRS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Context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in BiH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ow fertility rate and use of modern contracep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Youth comprise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¼ of population, but unemployment is 60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High prevalence rate of GBV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very 4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woman is a victim of some form of violence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). Legacy of CRS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g</a:t>
            </a:r>
            <a:r>
              <a:rPr b="0" lang="bs-BA" sz="2200" spc="-1" strike="noStrike">
                <a:solidFill>
                  <a:srgbClr val="ffffff"/>
                </a:solidFill>
                <a:latin typeface="Times New Roman"/>
              </a:rPr>
              <a:t>eing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population (by 2050, 40% over 65 in Bi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1 S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"/>
          <p:cNvSpPr/>
          <p:nvPr/>
        </p:nvSpPr>
        <p:spPr>
          <a:xfrm>
            <a:off x="324000" y="1773360"/>
            <a:ext cx="835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RH polic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ndards and quality improvement in maternal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ice provision on family planning, maternal health and cervical canc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grating Minimum Initial Service Package to address the need of women, youth and elderly in emergency sit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2 Y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468360" y="1916280"/>
            <a:ext cx="84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th policies 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disadvantaged groups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ngthening informal sexuality education through youth peer outreach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ngthening comprehensive sexuality education and advocacy for inclusion in formal educational system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ressing early marriages, including teen pregna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89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3 GBV/CRS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50920" y="1916280"/>
            <a:ext cx="864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ong focus on 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CRSV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rough health sector capacity building and referrals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, addressing stigm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UN JP –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, Canada, UN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on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roducing gender-transformative approaches and strengthening the engagement of men and boys on gender equality and gender-based vio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ment of SRHR reporting mechanis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89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"/>
          <p:cNvSpPr/>
          <p:nvPr/>
        </p:nvSpPr>
        <p:spPr>
          <a:xfrm>
            <a:off x="1066680" y="60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4360" y="533520"/>
            <a:ext cx="518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FPA-Semibold"/>
              </a:rPr>
              <a:t>Pillar 4 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468360" y="1916280"/>
            <a:ext cx="84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engthening capacities for population data collection, analysis, dissemination and use for informed policy development (</a:t>
            </a:r>
            <a:r>
              <a:rPr b="0" lang="bs-BA" sz="2800" spc="-1" strike="noStrike">
                <a:solidFill>
                  <a:srgbClr val="ffffff"/>
                </a:solidFill>
                <a:latin typeface="Times New Roman"/>
              </a:rPr>
              <a:t>Cens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DH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ment of ageing policies in line with the Madrid International Plan of Action on Ag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4:10:48Z</dcterms:created>
  <dc:creator>Jurgen</dc:creator>
  <dc:description/>
  <dc:language>en-US</dc:language>
  <cp:lastModifiedBy>Gabrijela Jurela</cp:lastModifiedBy>
  <dcterms:modified xsi:type="dcterms:W3CDTF">2016-06-28T15:43:38Z</dcterms:modified>
  <cp:revision>195</cp:revision>
  <dc:subject/>
  <dc:title>No Slide Title</dc:title>
</cp:coreProperties>
</file>